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24.jpeg" ContentType="image/jpeg"/>
  <Override PartName="/ppt/media/projctor.wav" ContentType="audio/x-wav"/>
  <Override PartName="/ppt/media/image14.png" ContentType="image/png"/>
  <Override PartName="/ppt/media/image10.jpeg" ContentType="image/jpeg"/>
  <Override PartName="/ppt/media/image28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16.jpeg" ContentType="image/jpeg"/>
  <Override PartName="/ppt/media/image34.wmf" ContentType="image/x-wmf"/>
  <Override PartName="/ppt/media/image4.wmf" ContentType="image/x-wmf"/>
  <Override PartName="/ppt/media/image3.png" ContentType="image/png"/>
  <Override PartName="/ppt/media/image17.jpeg" ContentType="image/jpeg"/>
  <Override PartName="/ppt/media/image2.png" ContentType="image/png"/>
  <Override PartName="/ppt/media/image31.png" ContentType="image/png"/>
  <Override PartName="/ppt/media/image1.png" ContentType="image/png"/>
  <Override PartName="/ppt/media/camera.wav" ContentType="audio/x-wav"/>
  <Override PartName="/ppt/media/chimes.wav" ContentType="audio/x-wav"/>
  <Override PartName="/ppt/media/image21.jpeg" ContentType="image/jpe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7FC3D50-A92F-46E1-89C5-6B2EB4B33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4AFAEF1-182B-4143-91C6-144525FBC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FEE0B3-765D-4129-B487-A01E43B0F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1852BDC-9587-4DCB-877A-8DFD46687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B0F785-288B-484E-9E8A-DA46C3F93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D41A2E-6FF6-4896-8EAC-9A8CC1D3E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0BBC85-34F0-4511-818B-2C9AC15FD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10C5B7-E881-4228-AC30-06132B79F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9D4B91-3261-497B-83D5-7185E2F4A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240AD43-3781-4B76-94ED-184C30348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D3CBC9-5EFF-4043-959A-91DCD989D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0090767-3FBE-49D6-8CDB-67703B2DA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D250AE-723B-4924-92D0-BC6011EF9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1A6243-2B6C-40D1-869C-6CCDBD2F0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1AC38C-BAC6-4C62-80BA-BCF182B68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F04F7D-EDEE-4428-ABC2-5DA148404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E2C7B19-70E2-4D1F-82A1-0F1B7C739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D20FB7-0C60-4A04-9D01-0EBF96C32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BB614B-9B56-4AFC-A4FA-D305F0A7A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FD3FF9A-407C-4B1C-BD1B-89ECE5777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2B877E7-C06D-4FED-86E6-6DC631E5F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92D8D5-C374-4437-8519-3928A9BCA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795A5A-D5E0-465D-A8E0-C2252EFE8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FE27D0-F233-42F8-B73A-EC2A0765C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BBF1EC-4D8F-433D-9694-49CA80BA0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37C96D-96E5-4EF2-A90D-1925DBCDD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94BB37-1E2D-4D04-8C7D-93E9B9E32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90F900-AC47-4D48-93FD-A755C81DC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76A11B-1040-49B2-B100-1F4E4EC96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73BD5F-CB07-462D-920A-89A6D0D56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85162D-149F-472C-B251-C05314D6C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1F65C7-8F41-455A-A3BD-A0E61979E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E17A48-3D28-4649-86E9-8DD7D98A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8225407-1DA9-41DA-BA14-19DBD421D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68ADB8-5DBD-4B18-B324-EB89B43C6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D2030C-ADE4-493D-838B-BB9F95411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98AB3D2-D0D1-42C8-B089-9D5C2C8AA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9CAD50-EBBA-4B9C-BBF1-381C817A3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98CB3D-D623-445A-B348-9E3E605F9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1A1C7C-923F-47CE-A01C-A5D5B5F7C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F0C92D-F4D6-4ABC-9881-E15FD5C3E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2B76D8-E57D-47C8-9BA2-F7909EA38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E0B225-44B6-42E2-A7A3-4049315E7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18CCD4-B6CD-4933-A3A9-2FD4412C4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FDE9AE-5A62-463C-9B08-F67439A90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67147E-4533-43B8-826B-D3EAC42ED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C9BFC2-44EB-49F6-BD9B-57F953CB6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1987BB-1F77-4D02-A407-60498126F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C68826-D478-4478-9B14-949BB0A51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F30128-0D97-4D51-B4B4-539183C85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337FD1-934C-4575-BFFE-94A048117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FD59C3-D049-41B7-A11E-60C3E86C1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AD8030-BC6C-463E-B67A-3CD596C9C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E4B-2A04-4D79-AE8A-C3132C2E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26A-C346-4324-8FC9-91F743FB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905-CCB8-4916-9A08-6EA3EE4F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9FF-0D5A-4B59-A17C-79C56E9F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9D6D-4A54-4151-A59F-5960AEFC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1851-B082-43B7-BE6B-DBC577E5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FC11-57A0-47B7-BAB8-08528BDD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EAFB-59C6-4AF4-A871-5EC96682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E1E7-B763-48BF-8480-E40B4543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4822-57B4-4768-ADD1-C11BD664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88EF-28E6-4B54-A7B9-65885EF1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E8C-8608-4395-98A8-44D42048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768C-F740-4AA8-BA81-784BEF82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8809-71FC-4488-963A-9D1DA494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6EF5-451B-434A-B3D5-93A91D31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DB23-69A7-4E2C-BD61-13B98B47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4E47-F20E-4149-9C9B-6FE002CF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6D7-6C64-4677-A0E6-F478D4FE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147-66DC-4968-8223-CB3C603C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683-05F0-4BE8-801B-E9EE1698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E83-6D84-4819-A53A-5A15DAC4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20D-DE0E-4DA3-9B32-B8940292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82A-37E9-4991-887B-09147771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A98-06C4-410D-A43A-4215F204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0000"/>
                        </a:solidFill>
                        <a:latin typeface="Britannic Bold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0000"/>
                        </a:solidFill>
                        <a:latin typeface="Britannic Bold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Britannic Bold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986D-BD9F-4B0B-98B6-DDDF789A43DF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0000"/>
                        </a:solidFill>
                        <a:latin typeface="Britannic Bold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0000"/>
                        </a:solidFill>
                        <a:latin typeface="Britannic Bold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14B2-E684-4F92-BDC3-6BB4E44060D5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ohn_G._roberts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4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nthony_Kennedy_Official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4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avidSouter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4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7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9.jpeg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ohn_G._roberts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supremecourtus.gov/bcra/bcra.html" TargetMode="External"/><Relationship Id="rId4" Type="http://schemas.openxmlformats.org/officeDocument/2006/relationships/image" Target="../media/image13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30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30.jpe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31.pn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32.jpe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3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rshall-john-engraving-after-inman-harvard-legal.png" TargetMode="External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4.wm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5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jpeg"/><Relationship Id="rId3" Type="http://schemas.openxmlformats.org/officeDocument/2006/relationships/image" Target="../media/image36.jpe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3.jpeg"/><Relationship Id="rId3" Type="http://schemas.openxmlformats.org/officeDocument/2006/relationships/image" Target="../media/image38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9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0.jpeg"/><Relationship Id="rId3" Type="http://schemas.openxmlformats.org/officeDocument/2006/relationships/image" Target="../media/image39.pn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pn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rshall-john-engraving-after-inman-harvard-legal.png" TargetMode="External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0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0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supremecourtus.gov/bcra/bcra.html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uscourts.gov/links.html" TargetMode="External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0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Of course I'm right, I'm always right."/>
          <p:cNvPicPr/>
          <p:nvPr/>
        </p:nvPicPr>
        <p:blipFill>
          <a:blip r:embed="rId2"/>
          <a:stretch/>
        </p:blipFill>
        <p:spPr>
          <a:xfrm>
            <a:off x="228600" y="914400"/>
            <a:ext cx="3290760" cy="28796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5"/>
          <p:cNvSpPr/>
          <p:nvPr/>
        </p:nvSpPr>
        <p:spPr>
          <a:xfrm>
            <a:off x="2590920" y="914400"/>
            <a:ext cx="6095880" cy="1981080"/>
          </a:xfrm>
          <a:prstGeom prst="wedgeRoundRectCallout">
            <a:avLst>
              <a:gd name="adj1" fmla="val -59689"/>
              <a:gd name="adj2" fmla="val 44231"/>
              <a:gd name="adj3" fmla="val 16667"/>
            </a:avLst>
          </a:prstGeom>
          <a:solidFill>
            <a:srgbClr val="eaeae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ll right, you people, now you are in my area—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icial system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And w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 going to learn about the American System of Justic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293" name="Picture 6" descr="wapner1"/>
          <p:cNvPicPr/>
          <p:nvPr/>
        </p:nvPicPr>
        <p:blipFill>
          <a:blip r:embed="rId3"/>
          <a:stretch/>
        </p:blipFill>
        <p:spPr>
          <a:xfrm>
            <a:off x="6431040" y="4164120"/>
            <a:ext cx="2712960" cy="269388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7"/>
          <p:cNvSpPr/>
          <p:nvPr/>
        </p:nvSpPr>
        <p:spPr>
          <a:xfrm>
            <a:off x="380880" y="4038480"/>
            <a:ext cx="5867640" cy="1752840"/>
          </a:xfrm>
          <a:prstGeom prst="wedgeRoundRectCallout">
            <a:avLst>
              <a:gd name="adj1" fmla="val 69236"/>
              <a:gd name="adj2" fmla="val 62407"/>
              <a:gd name="adj3" fmla="val 16667"/>
            </a:avLst>
          </a:prstGeom>
          <a:solidFill>
            <a:srgbClr val="eaeae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right, Judge Judy.  Judge Wapner here.  W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ll start by talking in general about American court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1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Detail of West Pediment above main entrance to Supreme Court"/>
          <p:cNvPicPr/>
          <p:nvPr/>
        </p:nvPicPr>
        <p:blipFill>
          <a:blip r:embed="rId2"/>
          <a:stretch/>
        </p:blipFill>
        <p:spPr>
          <a:xfrm>
            <a:off x="2057400" y="5132520"/>
            <a:ext cx="5715000" cy="17254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304920" y="838080"/>
            <a:ext cx="8839080" cy="1920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ges base their decisions on two inpu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ritten legal brief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submitted by the attorneys from both sides and from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writte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cord from the actual trial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04920" y="2362320"/>
            <a:ext cx="820080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ften, attorney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from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oth sid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may als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rally argue the cas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before a 3-judge panel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04920" y="3200400"/>
            <a:ext cx="8839080" cy="228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ges can revers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lower court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cisi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;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ffirm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or uphold)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lower cour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cisi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; or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nd the case back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o the lowe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r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or retrial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Usually, a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versal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ill com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f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e appeals court finds that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ower cour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id not properly apply a law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Judge Joe Brown"/>
          <p:cNvPicPr/>
          <p:nvPr/>
        </p:nvPicPr>
        <p:blipFill>
          <a:blip r:embed="rId2"/>
          <a:stretch/>
        </p:blipFill>
        <p:spPr>
          <a:xfrm>
            <a:off x="304920" y="9144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5"/>
          <p:cNvSpPr/>
          <p:nvPr/>
        </p:nvSpPr>
        <p:spPr>
          <a:xfrm>
            <a:off x="2438280" y="990720"/>
            <a:ext cx="6248520" cy="761760"/>
          </a:xfrm>
          <a:prstGeom prst="wedgeRoundRectCallout">
            <a:avLst>
              <a:gd name="adj1" fmla="val -55638"/>
              <a:gd name="adj2" fmla="val 57499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tudents, also understand tha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ederal judges serve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or lif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350" name="Picture 6" descr="Portrait of James Madison"/>
          <p:cNvPicPr/>
          <p:nvPr/>
        </p:nvPicPr>
        <p:blipFill>
          <a:blip r:embed="rId3"/>
          <a:stretch/>
        </p:blipFill>
        <p:spPr>
          <a:xfrm>
            <a:off x="3505320" y="1828800"/>
            <a:ext cx="1969920" cy="28954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5105520" y="1828800"/>
            <a:ext cx="4038480" cy="2819520"/>
          </a:xfrm>
          <a:prstGeom prst="wedgeRoundRectCallout">
            <a:avLst>
              <a:gd name="adj1" fmla="val -61439"/>
              <a:gd name="adj2" fmla="val -5967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y fellow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ounder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nd I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ante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 system whe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g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could remai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independent of political pressur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202320" y="4578480"/>
            <a:ext cx="9120600" cy="228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ederal judg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ppointed by the Presiden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d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pproved by the Senat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Throug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natorial Courtes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residents will giv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nators from their party who live in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gion where the judge will serve the courtes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f reviewing and approving nomination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9" descr="SCOTUS_2006%282%29"/>
          <p:cNvPicPr/>
          <p:nvPr/>
        </p:nvPicPr>
        <p:blipFill>
          <a:blip r:embed="rId1"/>
          <a:srcRect l="0" t="21763" r="0" b="0"/>
          <a:stretch/>
        </p:blipFill>
        <p:spPr>
          <a:xfrm>
            <a:off x="0" y="1468440"/>
            <a:ext cx="8915400" cy="5389560"/>
          </a:xfrm>
          <a:prstGeom prst="rect">
            <a:avLst/>
          </a:prstGeom>
          <a:ln w="0">
            <a:noFill/>
          </a:ln>
        </p:spPr>
      </p:pic>
      <p:sp>
        <p:nvSpPr>
          <p:cNvPr id="354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5" name="Picture 3" descr="bs00682_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6"/>
          <p:cNvSpPr/>
          <p:nvPr/>
        </p:nvSpPr>
        <p:spPr>
          <a:xfrm>
            <a:off x="-137520" y="844560"/>
            <a:ext cx="747000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Unicode MS"/>
              </a:rPr>
              <a:t>The United States Supreme Court </a:t>
            </a:r>
            <a:endParaRPr b="0" lang="en-US" sz="36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3124080" y="5791320"/>
            <a:ext cx="3276720" cy="838080"/>
          </a:xfrm>
          <a:prstGeom prst="wedgeRoundRectCallout">
            <a:avLst>
              <a:gd name="adj1" fmla="val -7560"/>
              <a:gd name="adj2" fmla="val -365717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Now, i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our turn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4"/>
          <p:cNvSpPr txBox="1"/>
          <p:nvPr/>
        </p:nvSpPr>
        <p:spPr>
          <a:xfrm>
            <a:off x="990720" y="152280"/>
            <a:ext cx="6095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9" name="Picture 5" descr="SCOTUS_2006%282%29"/>
          <p:cNvPicPr/>
          <p:nvPr/>
        </p:nvPicPr>
        <p:blipFill>
          <a:blip r:embed="rId1"/>
          <a:srcRect l="0" t="21763" r="0" b="0"/>
          <a:stretch/>
        </p:blipFill>
        <p:spPr>
          <a:xfrm>
            <a:off x="0" y="1468440"/>
            <a:ext cx="8915400" cy="53895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0" y="5670720"/>
            <a:ext cx="883908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hief Justice: John Robert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2005);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John Paul Steven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75);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Antonin Scalia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86);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nthony Kennedy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88)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avid Souter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90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-117720" y="457200"/>
            <a:ext cx="779184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larence Thoma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91);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uth Bade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insburg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93);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Stephen Breyer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94);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amuel Alito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2006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2" name="Line 8"/>
          <p:cNvSpPr/>
          <p:nvPr/>
        </p:nvSpPr>
        <p:spPr>
          <a:xfrm flipV="1">
            <a:off x="4191120" y="3962520"/>
            <a:ext cx="22860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3" name="Line 9"/>
          <p:cNvSpPr/>
          <p:nvPr/>
        </p:nvSpPr>
        <p:spPr>
          <a:xfrm flipV="1">
            <a:off x="1523880" y="4191120"/>
            <a:ext cx="1295640" cy="2133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4" name="Line 10"/>
          <p:cNvSpPr/>
          <p:nvPr/>
        </p:nvSpPr>
        <p:spPr>
          <a:xfrm flipV="1">
            <a:off x="4648320" y="4114440"/>
            <a:ext cx="1295280" cy="1981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1295280" y="4266720"/>
            <a:ext cx="152640" cy="22100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7086600" y="3885840"/>
            <a:ext cx="380880" cy="2590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3124080" y="762120"/>
            <a:ext cx="457200" cy="11430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8" name="Line 15"/>
          <p:cNvSpPr/>
          <p:nvPr/>
        </p:nvSpPr>
        <p:spPr>
          <a:xfrm flipH="1">
            <a:off x="5409720" y="762120"/>
            <a:ext cx="762120" cy="1523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9" name="Line 16"/>
          <p:cNvSpPr/>
          <p:nvPr/>
        </p:nvSpPr>
        <p:spPr>
          <a:xfrm flipH="1">
            <a:off x="2514240" y="1143000"/>
            <a:ext cx="114300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70" name="Line 17"/>
          <p:cNvSpPr/>
          <p:nvPr/>
        </p:nvSpPr>
        <p:spPr>
          <a:xfrm>
            <a:off x="5638680" y="1523880"/>
            <a:ext cx="609840" cy="3812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2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9"/>
          <p:cNvSpPr/>
          <p:nvPr/>
        </p:nvSpPr>
        <p:spPr>
          <a:xfrm>
            <a:off x="131760" y="5432400"/>
            <a:ext cx="698544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During good behavior</a:t>
            </a: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 (or for life)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72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-76680" y="939960"/>
            <a:ext cx="872604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No background requirements: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ge, profession.  Bu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ll have ha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ignificant preparatio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-37080" y="2289240"/>
            <a:ext cx="8795880" cy="82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nstitution does not set size;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ngress set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siz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The current number of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9 set 1869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376" name="Picture 7" descr="image?id=10198"/>
          <p:cNvPicPr/>
          <p:nvPr/>
        </p:nvPicPr>
        <p:blipFill>
          <a:blip r:embed="rId2"/>
          <a:stretch/>
        </p:blipFill>
        <p:spPr>
          <a:xfrm>
            <a:off x="6934320" y="3276720"/>
            <a:ext cx="1869840" cy="243828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8"/>
          <p:cNvSpPr/>
          <p:nvPr/>
        </p:nvSpPr>
        <p:spPr>
          <a:xfrm>
            <a:off x="762120" y="3352680"/>
            <a:ext cx="5943600" cy="1981440"/>
          </a:xfrm>
          <a:prstGeom prst="wedgeRoundRectCallout">
            <a:avLst>
              <a:gd name="adj1" fmla="val 59375"/>
              <a:gd name="adj2" fmla="val 6888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ello, again, students.  Chief Justice John Marshall here.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ow long can a Supreme Court Justice serv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per the Constitution?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96480" y="6062760"/>
            <a:ext cx="8840160" cy="82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ppointed by the President; approved by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U. S. Senat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379" name="Picture 2" descr="04roberts"/>
          <p:cNvPicPr/>
          <p:nvPr/>
        </p:nvPicPr>
        <p:blipFill>
          <a:blip r:embed="rId3"/>
          <a:stretch/>
        </p:blipFill>
        <p:spPr>
          <a:xfrm>
            <a:off x="0" y="914400"/>
            <a:ext cx="22860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034" descr="John Rober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762120"/>
            <a:ext cx="1905120" cy="2657520"/>
          </a:xfrm>
          <a:prstGeom prst="rect">
            <a:avLst/>
          </a:prstGeom>
          <a:ln w="0">
            <a:noFill/>
          </a:ln>
        </p:spPr>
      </p:pic>
      <p:sp>
        <p:nvSpPr>
          <p:cNvPr id="381" name="WordArt 2"/>
          <p:cNvSpPr txBox="1"/>
          <p:nvPr/>
        </p:nvSpPr>
        <p:spPr>
          <a:xfrm>
            <a:off x="1066680" y="228600"/>
            <a:ext cx="723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2" name="Picture 3" descr="bs00682_"/>
          <p:cNvPicPr/>
          <p:nvPr/>
        </p:nvPicPr>
        <p:blipFill>
          <a:blip r:embed="rId3"/>
          <a:stretch/>
        </p:blipFill>
        <p:spPr>
          <a:xfrm>
            <a:off x="8542440" y="0"/>
            <a:ext cx="601560" cy="76212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5"/>
          <p:cNvSpPr/>
          <p:nvPr/>
        </p:nvSpPr>
        <p:spPr>
          <a:xfrm>
            <a:off x="1981080" y="914400"/>
            <a:ext cx="6096240" cy="2362320"/>
          </a:xfrm>
          <a:prstGeom prst="wedgeRoundRectCallout">
            <a:avLst>
              <a:gd name="adj1" fmla="val -63930"/>
              <a:gd name="adj2" fmla="val -3763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upreme Cour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ostly an appeals cour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viewing cases from lower federal cour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Abou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12%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of the cases we review com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rom state cour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120" y="3471840"/>
            <a:ext cx="9015480" cy="228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ach year,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upreme Court receive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undreds of cas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I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ts its own agenda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y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hoosing to hear cas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on public policy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ssue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 it considers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ost pressing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Thos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ases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laced on the court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docke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(o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schedul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Antonin_Scalia%2C_SCOTUS_photo_portrait"/>
          <p:cNvPicPr/>
          <p:nvPr/>
        </p:nvPicPr>
        <p:blipFill>
          <a:blip r:embed="rId1"/>
          <a:srcRect l="19038" t="0" r="13872" b="40004"/>
          <a:stretch/>
        </p:blipFill>
        <p:spPr>
          <a:xfrm>
            <a:off x="6105600" y="1066680"/>
            <a:ext cx="3038400" cy="3505320"/>
          </a:xfrm>
          <a:prstGeom prst="rect">
            <a:avLst/>
          </a:prstGeom>
          <a:ln w="0">
            <a:noFill/>
          </a:ln>
        </p:spPr>
      </p:pic>
      <p:sp>
        <p:nvSpPr>
          <p:cNvPr id="386" name="WordArt 2"/>
          <p:cNvSpPr txBox="1"/>
          <p:nvPr/>
        </p:nvSpPr>
        <p:spPr>
          <a:xfrm>
            <a:off x="990720" y="304920"/>
            <a:ext cx="7162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Picture 3" descr="bs00682_"/>
          <p:cNvPicPr/>
          <p:nvPr/>
        </p:nvPicPr>
        <p:blipFill>
          <a:blip r:embed="rId2"/>
          <a:stretch/>
        </p:blipFill>
        <p:spPr>
          <a:xfrm>
            <a:off x="8361360" y="0"/>
            <a:ext cx="782640" cy="99072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5"/>
          <p:cNvSpPr/>
          <p:nvPr/>
        </p:nvSpPr>
        <p:spPr>
          <a:xfrm>
            <a:off x="762120" y="1143000"/>
            <a:ext cx="5486400" cy="3124080"/>
          </a:xfrm>
          <a:prstGeom prst="wedgeRoundRectCallout">
            <a:avLst>
              <a:gd name="adj1" fmla="val 70601"/>
              <a:gd name="adj2" fmla="val 1981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ost people who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etition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Supreme Cour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quest a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writ of certiorari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f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urt agre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o hear the case, i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rants a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cert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nder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ule of Four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—if 4 justices vote to hear the cas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66240" y="4575240"/>
            <a:ext cx="8868960" cy="1920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Lawyers who may argue before the Suprem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rt must b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embers of the Suprem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urt bar—having been a member of a stat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ar for at least 3 year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nd known to be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Good moral and professional character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Clarence_Thomas_official"/>
          <p:cNvPicPr/>
          <p:nvPr/>
        </p:nvPicPr>
        <p:blipFill>
          <a:blip r:embed="rId1"/>
          <a:srcRect l="22028" t="1566" r="4225" b="40479"/>
          <a:stretch/>
        </p:blipFill>
        <p:spPr>
          <a:xfrm>
            <a:off x="0" y="914400"/>
            <a:ext cx="2779560" cy="2819520"/>
          </a:xfrm>
          <a:prstGeom prst="rect">
            <a:avLst/>
          </a:prstGeom>
          <a:ln w="0">
            <a:noFill/>
          </a:ln>
        </p:spPr>
      </p:pic>
      <p:sp>
        <p:nvSpPr>
          <p:cNvPr id="391" name="WordArt 2"/>
          <p:cNvSpPr txBox="1"/>
          <p:nvPr/>
        </p:nvSpPr>
        <p:spPr>
          <a:xfrm>
            <a:off x="990720" y="304920"/>
            <a:ext cx="7391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2" name="Picture 3" descr="bs00682_"/>
          <p:cNvPicPr/>
          <p:nvPr/>
        </p:nvPicPr>
        <p:blipFill>
          <a:blip r:embed="rId2"/>
          <a:stretch/>
        </p:blipFill>
        <p:spPr>
          <a:xfrm>
            <a:off x="8421840" y="0"/>
            <a:ext cx="722160" cy="9144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5"/>
          <p:cNvSpPr/>
          <p:nvPr/>
        </p:nvSpPr>
        <p:spPr>
          <a:xfrm>
            <a:off x="2209680" y="990720"/>
            <a:ext cx="6934320" cy="2743200"/>
          </a:xfrm>
          <a:prstGeom prst="wedgeRoundRectCallout">
            <a:avLst>
              <a:gd name="adj1" fmla="val -62569"/>
              <a:gd name="adj2" fmla="val -2199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or cases we choose to hear (about 140 out of the nearly 8,000 cases filed each year), lawyers for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each side file written briefs—summaries of their argumen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based on law, the Constitution, and evidenc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-196200" y="3813120"/>
            <a:ext cx="914796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f one of the sid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a cas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s the United State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overnmen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Solicitor General of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United Stat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an official of the Department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Justice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iles the brief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-307440" y="5337000"/>
            <a:ext cx="900648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roup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who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no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ain parties bu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wh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av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reat interes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a cas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ay file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amicu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curia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friend of the court)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rief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s wel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5" descr="Justice_Alito_official"/>
          <p:cNvPicPr/>
          <p:nvPr/>
        </p:nvPicPr>
        <p:blipFill>
          <a:blip r:embed="rId1"/>
          <a:srcRect l="18069" t="6002" r="27743" b="42003"/>
          <a:stretch/>
        </p:blipFill>
        <p:spPr>
          <a:xfrm>
            <a:off x="0" y="838080"/>
            <a:ext cx="2338560" cy="2895840"/>
          </a:xfrm>
          <a:prstGeom prst="rect">
            <a:avLst/>
          </a:prstGeom>
          <a:ln w="0">
            <a:noFill/>
          </a:ln>
        </p:spPr>
      </p:pic>
      <p:sp>
        <p:nvSpPr>
          <p:cNvPr id="397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8" name="Picture 3" descr="bs00682_"/>
          <p:cNvPicPr/>
          <p:nvPr/>
        </p:nvPicPr>
        <p:blipFill>
          <a:blip r:embed="rId2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2133720" y="990720"/>
            <a:ext cx="7010280" cy="3581280"/>
          </a:xfrm>
          <a:prstGeom prst="wedgeRoundRectCallout">
            <a:avLst>
              <a:gd name="adj1" fmla="val -62226"/>
              <a:gd name="adj2" fmla="val -16268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fter the Court has read the written briefs, lawyers for both sides presen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ral argumen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before the Court.  Generally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each side has 30-minut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o present its case; however, usually my colleagues and I us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ost of that tim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by asking them to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spon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o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our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(the justices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question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-42840" y="4767120"/>
            <a:ext cx="9250200" cy="1920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fter hearing arguments on cases for abou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ree weeks, the members of the Court go in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nsideration sessions—they discuss the cases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 order of seniorit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starting with the Chie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Justice, and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cide how they will rul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9" descr=" ">
            <a:hlinkClick r:id="rId1"/>
          </p:cNvPr>
          <p:cNvPicPr/>
          <p:nvPr/>
        </p:nvPicPr>
        <p:blipFill>
          <a:blip r:embed="rId2"/>
          <a:srcRect l="0" t="0" r="0" b="28686"/>
          <a:stretch/>
        </p:blipFill>
        <p:spPr>
          <a:xfrm>
            <a:off x="0" y="838080"/>
            <a:ext cx="2819520" cy="2594160"/>
          </a:xfrm>
          <a:prstGeom prst="rect">
            <a:avLst/>
          </a:prstGeom>
          <a:ln w="0">
            <a:noFill/>
          </a:ln>
        </p:spPr>
      </p:pic>
      <p:sp>
        <p:nvSpPr>
          <p:cNvPr id="402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3" name="Picture 3" descr="bs00682_"/>
          <p:cNvPicPr/>
          <p:nvPr/>
        </p:nvPicPr>
        <p:blipFill>
          <a:blip r:embed="rId3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5"/>
          <p:cNvSpPr/>
          <p:nvPr/>
        </p:nvSpPr>
        <p:spPr>
          <a:xfrm>
            <a:off x="2057400" y="914400"/>
            <a:ext cx="6629400" cy="1676520"/>
          </a:xfrm>
          <a:prstGeom prst="wedgeRoundRectCallout">
            <a:avLst>
              <a:gd name="adj1" fmla="val -58430"/>
              <a:gd name="adj2" fmla="val 19981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f we are not unanimous,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senior person on each side of an issue assign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opinion-writing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sponsibilitie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-327600" y="3584520"/>
            <a:ext cx="936432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majority opini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—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views of the majorit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f the court in both the outcome of the cas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d on the Cour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grounds for deciding i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-268920" y="5032440"/>
            <a:ext cx="875160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ncurring opinions—a justic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rites one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se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i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e/she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agrees with the majority out-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me, but disagree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ith all or part of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round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tated in the majority opinio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6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judgestand"/>
          <p:cNvPicPr/>
          <p:nvPr/>
        </p:nvPicPr>
        <p:blipFill>
          <a:blip r:embed="rId2"/>
          <a:stretch/>
        </p:blipFill>
        <p:spPr>
          <a:xfrm>
            <a:off x="0" y="838080"/>
            <a:ext cx="1784520" cy="601992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5"/>
          <p:cNvSpPr/>
          <p:nvPr/>
        </p:nvSpPr>
        <p:spPr>
          <a:xfrm>
            <a:off x="1523880" y="838080"/>
            <a:ext cx="7010640" cy="1295640"/>
          </a:xfrm>
          <a:prstGeom prst="wedgeRoundRectCallout">
            <a:avLst>
              <a:gd name="adj1" fmla="val -57995"/>
              <a:gd name="adj2" fmla="val 4166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irst off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ge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o more than make decisions based on laws; they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actually make law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828800" y="2387520"/>
            <a:ext cx="7072200" cy="447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hen judges announce specific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cisions, they also provide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egal grounds for those decision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ose grounds serve a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recedents: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uiding principles for determining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hat is legal in future situation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at involve similar issu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Othe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judges—and lawyers—use thes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recedents in guiding their action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o, judges by making precedents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ctually make law, with no check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r balance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8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62120"/>
            <a:ext cx="2354400" cy="3047760"/>
          </a:xfrm>
          <a:prstGeom prst="rect">
            <a:avLst/>
          </a:prstGeom>
          <a:ln w="0">
            <a:noFill/>
          </a:ln>
        </p:spPr>
      </p:pic>
      <p:sp>
        <p:nvSpPr>
          <p:cNvPr id="408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9" name="Picture 3" descr="bs00682_"/>
          <p:cNvPicPr/>
          <p:nvPr/>
        </p:nvPicPr>
        <p:blipFill>
          <a:blip r:embed="rId3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5"/>
          <p:cNvSpPr/>
          <p:nvPr/>
        </p:nvSpPr>
        <p:spPr>
          <a:xfrm>
            <a:off x="2133720" y="990720"/>
            <a:ext cx="6629400" cy="2590560"/>
          </a:xfrm>
          <a:prstGeom prst="wedgeRoundRectCallout">
            <a:avLst>
              <a:gd name="adj1" fmla="val -60680"/>
              <a:gd name="adj2" fmla="val 6615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 justice might write a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issenting opini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f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he or s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isagrees with the decision reached by the majorit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In this document, the justic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notes the grounds for his or her dissent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429840" y="4270320"/>
            <a:ext cx="822744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Supreme Court rarely reverses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cision of an earlier court,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lacing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great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eight on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stare decisi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—</a:t>
            </a: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or upholding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precedents set by earlier court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3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usa"/>
          <p:cNvPicPr/>
          <p:nvPr/>
        </p:nvPicPr>
        <p:blipFill>
          <a:blip r:embed="rId2"/>
          <a:stretch/>
        </p:blipFill>
        <p:spPr>
          <a:xfrm>
            <a:off x="1295280" y="838080"/>
            <a:ext cx="6354720" cy="47325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5"/>
          <p:cNvSpPr/>
          <p:nvPr/>
        </p:nvSpPr>
        <p:spPr>
          <a:xfrm>
            <a:off x="114480" y="5308560"/>
            <a:ext cx="861012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ypes of law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utilized in the American leg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ystem include: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mmon, statutory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nstitutional and administrativ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They ca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lso be categorized a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riminal or civil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7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img_byrd"/>
          <p:cNvPicPr/>
          <p:nvPr/>
        </p:nvPicPr>
        <p:blipFill>
          <a:blip r:embed="rId2"/>
          <a:stretch/>
        </p:blipFill>
        <p:spPr>
          <a:xfrm>
            <a:off x="304920" y="914400"/>
            <a:ext cx="2749320" cy="30481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5"/>
          <p:cNvSpPr/>
          <p:nvPr/>
        </p:nvSpPr>
        <p:spPr>
          <a:xfrm>
            <a:off x="2438280" y="990720"/>
            <a:ext cx="6248520" cy="2438280"/>
          </a:xfrm>
          <a:prstGeom prst="wedgeRoundRectCallout">
            <a:avLst>
              <a:gd name="adj1" fmla="val -64175"/>
              <a:gd name="adj2" fmla="val -3777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venin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ere, Columbians.  I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 Petri Hawkins Byrd, Judge Judy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bailiff.  And w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 going to briefly talk about various types of law within the U. S. legal system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12760" y="4230720"/>
            <a:ext cx="6264360" cy="1920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mmon law, or judge-made law, is a body of law based on judicial rulings in earlier cas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e discussed judge-made law in our previous lectur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421" name="Picture 7" descr="bd05878_"/>
          <p:cNvPicPr/>
          <p:nvPr/>
        </p:nvPicPr>
        <p:blipFill>
          <a:blip r:embed="rId3"/>
          <a:stretch/>
        </p:blipFill>
        <p:spPr>
          <a:xfrm>
            <a:off x="6491160" y="3603600"/>
            <a:ext cx="2652840" cy="3254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4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3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[IMAGE]"/>
          <p:cNvPicPr/>
          <p:nvPr/>
        </p:nvPicPr>
        <p:blipFill>
          <a:blip r:embed="rId2"/>
          <a:stretch/>
        </p:blipFill>
        <p:spPr>
          <a:xfrm>
            <a:off x="5962680" y="838080"/>
            <a:ext cx="3181320" cy="411480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5"/>
          <p:cNvSpPr/>
          <p:nvPr/>
        </p:nvSpPr>
        <p:spPr>
          <a:xfrm>
            <a:off x="380880" y="914400"/>
            <a:ext cx="6172200" cy="4191120"/>
          </a:xfrm>
          <a:prstGeom prst="wedgeRoundRectCallout">
            <a:avLst>
              <a:gd name="adj1" fmla="val 62421"/>
              <a:gd name="adj2" fmla="val -9092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right Petri.  In fact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ost of the laws used in civil cases,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like those Judges Wapner, Brown and I hear on TV or in real courts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re based on common law.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If you have ever watched my show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or a judge or jury to hold against a defendant, that person mus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ave clearly acted negligentl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2960" y="5376960"/>
            <a:ext cx="901224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y relying on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mmon law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such cases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ges look to precedents set by other judge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 other ruling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as they interpret the law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8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img_byrd"/>
          <p:cNvPicPr/>
          <p:nvPr/>
        </p:nvPicPr>
        <p:blipFill>
          <a:blip r:embed="rId2"/>
          <a:stretch/>
        </p:blipFill>
        <p:spPr>
          <a:xfrm>
            <a:off x="304920" y="914400"/>
            <a:ext cx="2749320" cy="304812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5"/>
          <p:cNvSpPr/>
          <p:nvPr/>
        </p:nvSpPr>
        <p:spPr>
          <a:xfrm>
            <a:off x="2362320" y="914400"/>
            <a:ext cx="6476760" cy="2286000"/>
          </a:xfrm>
          <a:prstGeom prst="wedgeRoundRectCallout">
            <a:avLst>
              <a:gd name="adj1" fmla="val -62648"/>
              <a:gd name="adj2" fmla="val 3333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second type of law used in American courts i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tatutory law—or laws made by Congress, state legislatures, county boards of supervisors, and city council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-392400" y="3813120"/>
            <a:ext cx="937944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ometimes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hen a judge rules on 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tatute, or law, he or she is performing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tatutory interpretation—deciding the meaning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f certain law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-309240" y="5308560"/>
            <a:ext cx="903528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third type of law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nstitutional law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rse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as supreme standing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over all othe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ypes of law—when in doubt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nstitutio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akes precedenc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4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lbdog"/>
          <p:cNvPicPr/>
          <p:nvPr/>
        </p:nvPicPr>
        <p:blipFill>
          <a:blip r:embed="rId2"/>
          <a:stretch/>
        </p:blipFill>
        <p:spPr>
          <a:xfrm>
            <a:off x="0" y="838080"/>
            <a:ext cx="3760920" cy="502920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5"/>
          <p:cNvSpPr/>
          <p:nvPr/>
        </p:nvSpPr>
        <p:spPr>
          <a:xfrm>
            <a:off x="2895480" y="990720"/>
            <a:ext cx="6248520" cy="5105160"/>
          </a:xfrm>
          <a:prstGeom prst="wedgeRoundRectCallout">
            <a:avLst>
              <a:gd name="adj1" fmla="val -61435"/>
              <a:gd name="adj2" fmla="val -11129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i Columbians.  Lawyer Elle here along with my favorite client, Bruiser.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dministrative law includes both regulations made by departments in the Executive Branch and the laws that govern the actions of those departments and independent agenci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This type of law is not very exciting; so le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get into criminal law, the stuff that gets my bloo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oving.  Yeah!!!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Judge Joe Brown"/>
          <p:cNvPicPr/>
          <p:nvPr/>
        </p:nvPicPr>
        <p:blipFill>
          <a:blip r:embed="rId2"/>
          <a:stretch/>
        </p:blipFill>
        <p:spPr>
          <a:xfrm>
            <a:off x="228600" y="914400"/>
            <a:ext cx="3352680" cy="279396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5"/>
          <p:cNvSpPr/>
          <p:nvPr/>
        </p:nvSpPr>
        <p:spPr>
          <a:xfrm>
            <a:off x="3048120" y="1066680"/>
            <a:ext cx="5638680" cy="1371600"/>
          </a:xfrm>
          <a:prstGeom prst="wedgeRoundRectCallout">
            <a:avLst>
              <a:gd name="adj1" fmla="val -65708"/>
              <a:gd name="adj2" fmla="val 7175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re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wo main types of criminal law: felonies and misdemeanor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28600" y="3429000"/>
            <a:ext cx="8653320" cy="228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eloni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rious crim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for which 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erson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f convicte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can receive very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eav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ntences of prison, fines, probation, or, i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ome cases, death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Examples include murder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ape, burglary and several others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-12600" y="5308560"/>
            <a:ext cx="905652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isdemeanors are less serious crim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suc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s traffic violations or disorderly conduct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ntences can include fin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r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confinement i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unty jail for short period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4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wapner1"/>
          <p:cNvPicPr/>
          <p:nvPr/>
        </p:nvPicPr>
        <p:blipFill>
          <a:blip r:embed="rId2"/>
          <a:stretch/>
        </p:blipFill>
        <p:spPr>
          <a:xfrm>
            <a:off x="304920" y="838080"/>
            <a:ext cx="2712960" cy="26942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5"/>
          <p:cNvSpPr/>
          <p:nvPr/>
        </p:nvSpPr>
        <p:spPr>
          <a:xfrm>
            <a:off x="2362320" y="914400"/>
            <a:ext cx="6553080" cy="3809880"/>
          </a:xfrm>
          <a:prstGeom prst="wedgeRoundRectCallout">
            <a:avLst>
              <a:gd name="adj1" fmla="val -57486"/>
              <a:gd name="adj2" fmla="val -4916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ost felony and misdemeanor laws are state laws and deal with crimes against people or propert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—assault and battery for example.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om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law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re federal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laws and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rimes against the federal govern-men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—income tax evasion, for exampl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-80640" y="4995720"/>
            <a:ext cx="925632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rimes are considered offenses against societ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 general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as well as against an individu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victim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lb08"/>
          <p:cNvPicPr/>
          <p:nvPr/>
        </p:nvPicPr>
        <p:blipFill>
          <a:blip r:embed="rId2"/>
          <a:srcRect l="34725" t="0" r="12502" b="0"/>
          <a:stretch/>
        </p:blipFill>
        <p:spPr>
          <a:xfrm>
            <a:off x="228600" y="1371600"/>
            <a:ext cx="3564000" cy="36576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5"/>
          <p:cNvSpPr/>
          <p:nvPr/>
        </p:nvSpPr>
        <p:spPr>
          <a:xfrm>
            <a:off x="3352680" y="1905120"/>
            <a:ext cx="5486400" cy="2133360"/>
          </a:xfrm>
          <a:prstGeom prst="wedgeRoundRectCallout">
            <a:avLst>
              <a:gd name="adj1" fmla="val -67884"/>
              <a:gd name="adj2" fmla="val 12500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ivil law involves disputes in which one private party brings a lawsuit against another for causing some harm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52" name="AutoShape 6"/>
          <p:cNvSpPr/>
          <p:nvPr/>
        </p:nvSpPr>
        <p:spPr>
          <a:xfrm>
            <a:off x="304920" y="685800"/>
            <a:ext cx="8839080" cy="1219320"/>
          </a:xfrm>
          <a:prstGeom prst="cloudCallout">
            <a:avLst>
              <a:gd name="adj1" fmla="val -24893"/>
              <a:gd name="adj2" fmla="val 4908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Unicode MS"/>
              </a:rPr>
              <a:t>Note these very conservative lawyer clothes.  Professional, eh?</a:t>
            </a:r>
            <a:endParaRPr b="0" lang="en-US" sz="28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-79560" y="4614840"/>
            <a:ext cx="900936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eople who file the lawsui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—le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say agains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 person who hits his or her car—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re called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laintiff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party against whom the suit i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rought is known as the defendan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5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Of course I'm right, I'm always right."/>
          <p:cNvPicPr/>
          <p:nvPr/>
        </p:nvPicPr>
        <p:blipFill>
          <a:blip r:embed="rId2"/>
          <a:stretch/>
        </p:blipFill>
        <p:spPr>
          <a:xfrm>
            <a:off x="228600" y="914400"/>
            <a:ext cx="3290760" cy="287964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5"/>
          <p:cNvSpPr/>
          <p:nvPr/>
        </p:nvSpPr>
        <p:spPr>
          <a:xfrm>
            <a:off x="2590920" y="990720"/>
            <a:ext cx="6248160" cy="4038480"/>
          </a:xfrm>
          <a:prstGeom prst="wedgeRoundRectCallout">
            <a:avLst>
              <a:gd name="adj1" fmla="val -59907"/>
              <a:gd name="adj2" fmla="val -5462"/>
              <a:gd name="adj3" fmla="val 16667"/>
            </a:avLst>
          </a:prstGeom>
          <a:solidFill>
            <a:srgbClr val="eaeae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re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ajor differenc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 civil and criminal cas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In a criminal law case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peopl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or the prosecutor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ust prove guilt beyond a reasonable doub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for example.  But in a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ivil sui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laintiff does no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ave to prove wrongdoing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by the defendan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eyond a reasonable doub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458" name="Picture 6" descr="OJ Simpson"/>
          <p:cNvPicPr/>
          <p:nvPr/>
        </p:nvPicPr>
        <p:blipFill>
          <a:blip r:embed="rId3"/>
          <a:stretch/>
        </p:blipFill>
        <p:spPr>
          <a:xfrm>
            <a:off x="0" y="3733920"/>
            <a:ext cx="2449440" cy="312408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7"/>
          <p:cNvSpPr/>
          <p:nvPr/>
        </p:nvSpPr>
        <p:spPr>
          <a:xfrm>
            <a:off x="1905120" y="4876920"/>
            <a:ext cx="6933960" cy="1981080"/>
          </a:xfrm>
          <a:prstGeom prst="wedgeRoundRectCallout">
            <a:avLst>
              <a:gd name="adj1" fmla="val -58106"/>
              <a:gd name="adj2" fmla="val -43828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why I walked away acquitted of murder in 1996, but in the civil suit brought by Fred Goldman and others I lost almost everything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1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U.S. Constitution"/>
          <p:cNvPicPr/>
          <p:nvPr/>
        </p:nvPicPr>
        <p:blipFill>
          <a:blip r:embed="rId2"/>
          <a:stretch/>
        </p:blipFill>
        <p:spPr>
          <a:xfrm>
            <a:off x="838080" y="914400"/>
            <a:ext cx="7162920" cy="59436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117720" y="4149720"/>
            <a:ext cx="849096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rticle III of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nstituti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:  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judici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ower of the United States shall be vest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one supreme Court, and in such inferior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rts as the Congress may . . . establish.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-11160" y="5673600"/>
            <a:ext cx="881568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is provision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ives the federal court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ir jurisdiction—the authority to interpret 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nd administer the law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7" descr="John Rober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762120"/>
            <a:ext cx="1905120" cy="2657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Supreme Court Building">
            <a:hlinkClick r:id="rId3"/>
          </p:cNvPr>
          <p:cNvPicPr/>
          <p:nvPr/>
        </p:nvPicPr>
        <p:blipFill>
          <a:blip r:embed="rId4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5"/>
          <p:cNvSpPr/>
          <p:nvPr/>
        </p:nvSpPr>
        <p:spPr>
          <a:xfrm>
            <a:off x="3200400" y="838080"/>
            <a:ext cx="5105520" cy="5715000"/>
          </a:xfrm>
          <a:prstGeom prst="wedgeRoundRectCallout">
            <a:avLst>
              <a:gd name="adj1" fmla="val -90296"/>
              <a:gd name="adj2" fmla="val -29444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ince the decision of the Marshall Court in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Marbury v. Madis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803) Supreme Courts have made thousands of decisions.  Some of them, however, have been so important, that they are considered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andmark—or very important--decision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In this short class we shall discuss some of those landmark decision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63" name="WordArt 8"/>
          <p:cNvSpPr txBox="1"/>
          <p:nvPr/>
        </p:nvSpPr>
        <p:spPr>
          <a:xfrm>
            <a:off x="76212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5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3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image?id=1004230"/>
          <p:cNvPicPr/>
          <p:nvPr/>
        </p:nvPicPr>
        <p:blipFill>
          <a:blip r:embed="rId3"/>
          <a:stretch/>
        </p:blipFill>
        <p:spPr>
          <a:xfrm>
            <a:off x="6022800" y="1523880"/>
            <a:ext cx="3121200" cy="38862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5"/>
          <p:cNvSpPr/>
          <p:nvPr/>
        </p:nvSpPr>
        <p:spPr>
          <a:xfrm>
            <a:off x="1295280" y="838080"/>
            <a:ext cx="4953240" cy="4267440"/>
          </a:xfrm>
          <a:prstGeom prst="wedgeRoundRectCallout">
            <a:avLst>
              <a:gd name="adj1" fmla="val 71152"/>
              <a:gd name="adj2" fmla="val 11643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Good evening Columbians.  I was Chief Justice Earl Warren.  Our first case was a multi-amendment case (with emphasis on the First Amendment) that my court, the Warren Court, decided: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Griswold v. Connecticu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65)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694800" y="5308560"/>
            <a:ext cx="8677080" cy="1555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Connecticut law criminalized counseling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arried couples about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r giving marri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ples medical treatment for the purpose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f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preventing conception of a child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68" name="WordArt 7"/>
          <p:cNvSpPr txBox="1"/>
          <p:nvPr/>
        </p:nvSpPr>
        <p:spPr>
          <a:xfrm>
            <a:off x="91440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4"/>
          <p:cNvSpPr/>
          <p:nvPr/>
        </p:nvSpPr>
        <p:spPr>
          <a:xfrm>
            <a:off x="348480" y="1068480"/>
            <a:ext cx="588348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Griswold v. Connecticu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65)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62640" y="1792440"/>
            <a:ext cx="7889040" cy="1555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oes the Constitution protect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ight of marital privacy against stat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strictions on a coupl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ability to b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nseled in the use of contraceptives?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31680" y="3432240"/>
            <a:ext cx="8283960" cy="2823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urt held: together the First, Third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ourth and Ninth Amendments create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ight to privacy among married peopl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nnecticut law was therefor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unconstitutional and rendered null an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void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73" name="WordArt 7"/>
          <p:cNvSpPr txBox="1"/>
          <p:nvPr/>
        </p:nvSpPr>
        <p:spPr>
          <a:xfrm>
            <a:off x="914400" y="30492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5"/>
          <p:cNvSpPr/>
          <p:nvPr/>
        </p:nvSpPr>
        <p:spPr>
          <a:xfrm>
            <a:off x="142560" y="3102120"/>
            <a:ext cx="8946720" cy="37479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1958 a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Virginia law wa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ffect tha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banned interraci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arriages.  Two residents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Virginia, Mildred Jeter, a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frican-American woman an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ichard Loving, a white male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ere married in Washington, D. C., an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hortly after returned to Virginia. They wer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harged with violating the Virginia law, foun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uilty and sentenced each to a year in jail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475" name="Picture 2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image?id=1004230"/>
          <p:cNvPicPr/>
          <p:nvPr/>
        </p:nvPicPr>
        <p:blipFill>
          <a:blip r:embed="rId3"/>
          <a:srcRect l="0" t="0" r="0" b="7843"/>
          <a:stretch/>
        </p:blipFill>
        <p:spPr>
          <a:xfrm>
            <a:off x="6022800" y="1523880"/>
            <a:ext cx="3121200" cy="3581640"/>
          </a:xfrm>
          <a:prstGeom prst="rect">
            <a:avLst/>
          </a:prstGeom>
          <a:ln w="0">
            <a:noFill/>
          </a:ln>
        </p:spPr>
      </p:pic>
      <p:sp>
        <p:nvSpPr>
          <p:cNvPr id="477" name="AutoShape 4"/>
          <p:cNvSpPr/>
          <p:nvPr/>
        </p:nvSpPr>
        <p:spPr>
          <a:xfrm>
            <a:off x="152280" y="838080"/>
            <a:ext cx="6553440" cy="2057400"/>
          </a:xfrm>
          <a:prstGeom prst="wedgeRoundRectCallout">
            <a:avLst>
              <a:gd name="adj1" fmla="val 59013"/>
              <a:gd name="adj2" fmla="val 77856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Yet another case that  the Warren Court, decided, similar in many respects to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Griswold v. Connecticu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65) wa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Loving v. Virginia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67.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78" name="WordArt 6"/>
          <p:cNvSpPr txBox="1"/>
          <p:nvPr/>
        </p:nvSpPr>
        <p:spPr>
          <a:xfrm>
            <a:off x="91440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3"/>
          <p:cNvSpPr/>
          <p:nvPr/>
        </p:nvSpPr>
        <p:spPr>
          <a:xfrm>
            <a:off x="316440" y="914400"/>
            <a:ext cx="477396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Loving v. Virginia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67)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85680" y="1523880"/>
            <a:ext cx="8553960" cy="1190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id Virginia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anti-miscegenation law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violate the Equal Protection Clause of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ourteenth Amendment?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27440" y="2743200"/>
            <a:ext cx="8908560" cy="3992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 a unanimous decision, the Court held: tha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istinctions drawn according to race wer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enerally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dious to a free people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and wer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ubject to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most rigid scrutiny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under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Equal Protection Clause.  The Virginia law had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no legitimate purpose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dependent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vidious racial discrimination.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Cour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urther rejected Virginia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argument that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tatute was legitimate because it appli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qually to blacks and whites.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83" name="WordArt 6"/>
          <p:cNvSpPr txBox="1"/>
          <p:nvPr/>
        </p:nvSpPr>
        <p:spPr>
          <a:xfrm>
            <a:off x="914400" y="30492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Burger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19240" y="1057320"/>
            <a:ext cx="2377800" cy="2971800"/>
          </a:xfrm>
          <a:prstGeom prst="rect">
            <a:avLst/>
          </a:prstGeom>
          <a:ln w="0">
            <a:noFill/>
          </a:ln>
        </p:spPr>
      </p:pic>
      <p:sp>
        <p:nvSpPr>
          <p:cNvPr id="486" name="AutoShape 4"/>
          <p:cNvSpPr/>
          <p:nvPr/>
        </p:nvSpPr>
        <p:spPr>
          <a:xfrm>
            <a:off x="2352600" y="1057320"/>
            <a:ext cx="5791320" cy="3352680"/>
          </a:xfrm>
          <a:prstGeom prst="wedgeRoundRectCallout">
            <a:avLst>
              <a:gd name="adj1" fmla="val -61157"/>
              <a:gd name="adj2" fmla="val 9754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lumbians, I was Chief Justice Warren Burger.  We will now discuss one of my Cour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landmark decisions in a case regarding the Fourteenth Amendment: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Roe v. Wade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73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0440" y="4041720"/>
            <a:ext cx="9359640" cy="282312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Norma McCorvey (Roe), a Texas resident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ought to terminate her pregnancy by abortion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ecause the pregnancy was the result of rape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exas law prohibited abortions except to save 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regnant woman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lif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Roe sued claiming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 the Texas law violated the Fourteent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mendment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88" name="WordArt 6"/>
          <p:cNvSpPr txBox="1"/>
          <p:nvPr/>
        </p:nvSpPr>
        <p:spPr>
          <a:xfrm>
            <a:off x="76212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3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4"/>
          <p:cNvSpPr/>
          <p:nvPr/>
        </p:nvSpPr>
        <p:spPr>
          <a:xfrm>
            <a:off x="343080" y="1147680"/>
            <a:ext cx="375588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Roe v. Wad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73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-88200" y="1928880"/>
            <a:ext cx="8406000" cy="12636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oes the Constitution embrace 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oman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right to terminate her pregnanc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y abortion?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4760" y="3432240"/>
            <a:ext cx="8384400" cy="2823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urger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Court held: a woman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righ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o an abortion fell within the right 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rivacy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Griswold v. Connecticut--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1965)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rotected by the Fourteenth Amendment.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decision gave a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oman tot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utonomy over her pregnanc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uring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irst trimester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93" name="WordArt 7"/>
          <p:cNvSpPr txBox="1"/>
          <p:nvPr/>
        </p:nvSpPr>
        <p:spPr>
          <a:xfrm>
            <a:off x="76212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3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David Souter"/>
          <p:cNvPicPr/>
          <p:nvPr/>
        </p:nvPicPr>
        <p:blipFill>
          <a:blip r:embed="rId3"/>
          <a:stretch/>
        </p:blipFill>
        <p:spPr>
          <a:xfrm>
            <a:off x="244440" y="874800"/>
            <a:ext cx="1982880" cy="29718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5"/>
          <p:cNvSpPr/>
          <p:nvPr/>
        </p:nvSpPr>
        <p:spPr>
          <a:xfrm>
            <a:off x="2149560" y="1027080"/>
            <a:ext cx="5105160" cy="2743200"/>
          </a:xfrm>
          <a:prstGeom prst="wedgeRoundRectCallout">
            <a:avLst>
              <a:gd name="adj1" fmla="val -65361"/>
              <a:gd name="adj2" fmla="val 2314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Now we are going to discuss 4 cases that primarily pertain to the rights of the accused in criminal cases.  The first case i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Mapp v. Ohio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61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20880" y="4041720"/>
            <a:ext cx="8259480" cy="2651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hile searching her home for a fugitive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hio police discovered obscene material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Dolree Mapp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possession.  The polic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dmitted that the search of the home for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fugitive violated the Fourt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mendment.  Still, Mapp was convicted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ossessing obscene material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98" name="WordArt 7"/>
          <p:cNvSpPr txBox="1"/>
          <p:nvPr/>
        </p:nvSpPr>
        <p:spPr>
          <a:xfrm>
            <a:off x="76212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4"/>
          <p:cNvSpPr/>
          <p:nvPr/>
        </p:nvSpPr>
        <p:spPr>
          <a:xfrm>
            <a:off x="224640" y="847800"/>
            <a:ext cx="398304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Mapp v. Ohio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61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-7920" y="1514520"/>
            <a:ext cx="8020440" cy="2286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s: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1) Were the confiscated material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rotected by the First Amendment?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2) May evidence obtained in a searc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 violated the Fourth Amendmen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e used in a state court?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228600" y="3832200"/>
            <a:ext cx="8686800" cy="301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urt held: all evidence obtained through illegal searches and seizures is inadmissibl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state cour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is decisio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created the exclusionary rule,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lacing on all levels of government the requirement of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excluding illegally obtained evidence from all crimin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urt proceedings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03" name="WordArt 7"/>
          <p:cNvSpPr txBox="1"/>
          <p:nvPr/>
        </p:nvSpPr>
        <p:spPr>
          <a:xfrm>
            <a:off x="762120" y="15228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scalia_s"/>
          <p:cNvPicPr/>
          <p:nvPr/>
        </p:nvPicPr>
        <p:blipFill>
          <a:blip r:embed="rId2"/>
          <a:stretch/>
        </p:blipFill>
        <p:spPr>
          <a:xfrm>
            <a:off x="6359400" y="914400"/>
            <a:ext cx="2475000" cy="28954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5"/>
          <p:cNvSpPr/>
          <p:nvPr/>
        </p:nvSpPr>
        <p:spPr>
          <a:xfrm>
            <a:off x="1219320" y="914400"/>
            <a:ext cx="5029200" cy="2666880"/>
          </a:xfrm>
          <a:prstGeom prst="wedgeRoundRectCallout">
            <a:avLst>
              <a:gd name="adj1" fmla="val 69791"/>
              <a:gd name="adj2" fmla="val 21726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ur next case concerns the Sixth and Fourteenth Amendments; specifically the right to counsel: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Gideon v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Wainwrigh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63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304920" y="4114800"/>
            <a:ext cx="8613720" cy="282312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ide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was arrested in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lorida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nd charged with felony breaking and entering. He lacked funds to hire a lawyer and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quested a court-appointed lawyer.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ge refuse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; Gideon defended himself, was convicted, and sentenced to 5 years in state prison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08" name="WordArt 7"/>
          <p:cNvSpPr txBox="1"/>
          <p:nvPr/>
        </p:nvSpPr>
        <p:spPr>
          <a:xfrm>
            <a:off x="76212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4"/>
          <p:cNvSpPr txBox="1"/>
          <p:nvPr/>
        </p:nvSpPr>
        <p:spPr>
          <a:xfrm>
            <a:off x="990720" y="304920"/>
            <a:ext cx="7162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7440" y="936720"/>
            <a:ext cx="8404200" cy="2043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words of the Constitution are vagu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hief Justice John Marshall provided detail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garding what the courts may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o with his ruling in the cruci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ase of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Marbury v. Madiso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803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-38880" y="3054240"/>
            <a:ext cx="9244080" cy="360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John Adams commission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illiam Marbury as DC Justice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Peace.  Midnight appointment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New Secretary of State Madiso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fused to deliver; Marbury sued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arshall Court held: Madison had broken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law but that that part of the Judiciary Act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1789 was unconstitutional because it expanded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original jurisdiction of the Supreme Court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308" name="Picture 7" descr="Chief Justice John Marshall (1755–1835), an engraving after Henry Inman's 1834 painting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62600" y="1752480"/>
            <a:ext cx="2381400" cy="3238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WordArt 2"/>
          <p:cNvSpPr txBox="1"/>
          <p:nvPr/>
        </p:nvSpPr>
        <p:spPr>
          <a:xfrm>
            <a:off x="1219320" y="30492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000080"/>
                  </a:solidFill>
                  <a:miter/>
                </a:ln>
                <a:solidFill>
                  <a:srgbClr val="c9c6bb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000080"/>
                </a:solidFill>
                <a:miter/>
              </a:ln>
              <a:solidFill>
                <a:srgbClr val="c9c6bb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0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4"/>
          <p:cNvSpPr/>
          <p:nvPr/>
        </p:nvSpPr>
        <p:spPr>
          <a:xfrm>
            <a:off x="230400" y="915840"/>
            <a:ext cx="544752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Gideon v. Wainwrigh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63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-45360" y="1603440"/>
            <a:ext cx="7834320" cy="12636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o the Sixth and Fourteent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mendments guarantee a right to leg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nsel in all cases?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53640" y="2975040"/>
            <a:ext cx="8116200" cy="360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urt held: Gideon had a right 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e represented by a court-appoint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ttorney.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verruled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Betts v. Brad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42)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stice Black: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n obvious truth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that 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air trial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or a poor defendant requires a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mpetent leg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nsel.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awyer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re a necessity, no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 luxury.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514" name="Picture 7" descr="BD06878_"/>
          <p:cNvPicPr/>
          <p:nvPr/>
        </p:nvPicPr>
        <p:blipFill>
          <a:blip r:embed="rId2"/>
          <a:stretch/>
        </p:blipFill>
        <p:spPr>
          <a:xfrm>
            <a:off x="4952880" y="4778280"/>
            <a:ext cx="4191120" cy="207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Clarence Thomas"/>
          <p:cNvPicPr/>
          <p:nvPr/>
        </p:nvPicPr>
        <p:blipFill>
          <a:blip r:embed="rId2"/>
          <a:stretch/>
        </p:blipFill>
        <p:spPr>
          <a:xfrm>
            <a:off x="237960" y="831960"/>
            <a:ext cx="1982880" cy="2971800"/>
          </a:xfrm>
          <a:prstGeom prst="rect">
            <a:avLst/>
          </a:prstGeom>
          <a:ln w="0">
            <a:noFill/>
          </a:ln>
        </p:spPr>
      </p:pic>
      <p:sp>
        <p:nvSpPr>
          <p:cNvPr id="517" name="AutoShape 5"/>
          <p:cNvSpPr/>
          <p:nvPr/>
        </p:nvSpPr>
        <p:spPr>
          <a:xfrm>
            <a:off x="2066760" y="907920"/>
            <a:ext cx="5486400" cy="2590920"/>
          </a:xfrm>
          <a:prstGeom prst="wedgeRoundRectCallout">
            <a:avLst>
              <a:gd name="adj1" fmla="val -57726"/>
              <a:gd name="adj2" fmla="val 13726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other landmark decision dealing with the right of an accused person to an attorney was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1964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ecision,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Escobedo v. Illinoi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87840" y="3809880"/>
            <a:ext cx="8309880" cy="2823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scobedo was arrested in connection wit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 murder and, during interrogation at 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local police station, the police denied him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ccess to his attorney.  Without his lawye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resent, he confessed to firing the sho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 killed the victim and, based on tha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nfession, was convicted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19" name="WordArt 7"/>
          <p:cNvSpPr txBox="1"/>
          <p:nvPr/>
        </p:nvSpPr>
        <p:spPr>
          <a:xfrm>
            <a:off x="762120" y="15228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4"/>
          <p:cNvSpPr/>
          <p:nvPr/>
        </p:nvSpPr>
        <p:spPr>
          <a:xfrm>
            <a:off x="228600" y="990720"/>
            <a:ext cx="527364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Escobedo v. Illinoi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64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28600" y="1676520"/>
            <a:ext cx="7848720" cy="1263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Is an accused person entitled 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ave an attorney present during questioning.?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244440" y="2954160"/>
            <a:ext cx="8686800" cy="360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arre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Court held: based on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exclusionary rule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rom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Mapp v. Ohio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61),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the police obtained Escobedo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confession in an illegal manner.  His conviction was overturned.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Court also created the Escobedo Rule: based on the Sixth Amendment,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police must warn an accused of the rights to remain silent and to have an attorney present during questioning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24" name="WordArt 7"/>
          <p:cNvSpPr txBox="1"/>
          <p:nvPr/>
        </p:nvSpPr>
        <p:spPr>
          <a:xfrm>
            <a:off x="68580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2" name="projctor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lbdog"/>
          <p:cNvPicPr/>
          <p:nvPr/>
        </p:nvPicPr>
        <p:blipFill>
          <a:blip r:embed="rId2"/>
          <a:stretch/>
        </p:blipFill>
        <p:spPr>
          <a:xfrm>
            <a:off x="228600" y="838080"/>
            <a:ext cx="2563920" cy="3429000"/>
          </a:xfrm>
          <a:prstGeom prst="rect">
            <a:avLst/>
          </a:prstGeom>
          <a:ln w="0">
            <a:noFill/>
          </a:ln>
        </p:spPr>
      </p:pic>
      <p:sp>
        <p:nvSpPr>
          <p:cNvPr id="527" name="AutoShape 5"/>
          <p:cNvSpPr/>
          <p:nvPr/>
        </p:nvSpPr>
        <p:spPr>
          <a:xfrm>
            <a:off x="2895480" y="838080"/>
            <a:ext cx="5639040" cy="2895840"/>
          </a:xfrm>
          <a:prstGeom prst="wedgeRoundRectCallout">
            <a:avLst>
              <a:gd name="adj1" fmla="val -70750"/>
              <a:gd name="adj2" fmla="val 768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lumbians, Elle here.  Our next case is one of the most famous in American history.  It involves the Fifth Amendmen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Miranda v. Arizona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66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752480" y="3641760"/>
            <a:ext cx="7391520" cy="3213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iranda was arrested in Arizona and the police questioned him without advising him of his constitutional rights under the Fifth Amendment (self-incrimination.)  He confessed to part of the crime. His confession was used in court and he was convicted, based, in part, on his confession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529" name="Picture 7" descr="j0185047"/>
          <p:cNvPicPr/>
          <p:nvPr/>
        </p:nvPicPr>
        <p:blipFill>
          <a:blip r:embed="rId3"/>
          <a:stretch/>
        </p:blipFill>
        <p:spPr>
          <a:xfrm>
            <a:off x="0" y="3962520"/>
            <a:ext cx="1741320" cy="2590560"/>
          </a:xfrm>
          <a:prstGeom prst="rect">
            <a:avLst/>
          </a:prstGeom>
          <a:ln w="0">
            <a:noFill/>
          </a:ln>
        </p:spPr>
      </p:pic>
      <p:sp>
        <p:nvSpPr>
          <p:cNvPr id="530" name="WordArt 8"/>
          <p:cNvSpPr txBox="1"/>
          <p:nvPr/>
        </p:nvSpPr>
        <p:spPr>
          <a:xfrm>
            <a:off x="762120" y="15228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4"/>
          <p:cNvSpPr/>
          <p:nvPr/>
        </p:nvSpPr>
        <p:spPr>
          <a:xfrm>
            <a:off x="212400" y="966960"/>
            <a:ext cx="499032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Miranda v. Arizona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66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-79920" y="1574640"/>
            <a:ext cx="8169480" cy="2043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id the police practice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terrogating individuals withou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dvising them of their right to counse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d protection against self-incriminatio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violate the Fifth Amendment?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228600" y="3629160"/>
            <a:ext cx="8381880" cy="43826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urt held: Prosecutors could not us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tatement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court that had bee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made b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fendants unless police had advised them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f their privilege against self-incrimination.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Court also specifically outlined what police warnings to suspects must include (right to remain silent, right to counsel present during questioning, etc.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35" name="WordArt 7"/>
          <p:cNvSpPr txBox="1"/>
          <p:nvPr/>
        </p:nvSpPr>
        <p:spPr>
          <a:xfrm>
            <a:off x="762120" y="15228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2" name="projctor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image?id=235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8600" y="838080"/>
            <a:ext cx="2311560" cy="29718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-189000" y="2863800"/>
            <a:ext cx="7145640" cy="3992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1896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rt ruled, i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Plessy v. Fergus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 Blacks could b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laced in separat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acilities if they wer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qual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o those used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y whites. School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istricts therefor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reated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parate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ut equal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school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538" name="Picture 5" descr="Supreme Court Building"/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6"/>
          <p:cNvSpPr/>
          <p:nvPr/>
        </p:nvSpPr>
        <p:spPr>
          <a:xfrm>
            <a:off x="3733920" y="762120"/>
            <a:ext cx="5181480" cy="3809880"/>
          </a:xfrm>
          <a:prstGeom prst="wedgeRoundRectCallout">
            <a:avLst>
              <a:gd name="adj1" fmla="val -91175"/>
              <a:gd name="adj2" fmla="val -12416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 was Justice Thurgood Marshall.  When I was an attorney, I argued, and won, the single most important Supreme Court case regarding civil rights: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Brown v. Board of Education of Topeka, K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54)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40" name="WordArt 8"/>
          <p:cNvSpPr txBox="1"/>
          <p:nvPr/>
        </p:nvSpPr>
        <p:spPr>
          <a:xfrm>
            <a:off x="762120" y="15228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1" name="Picture 10" descr="HomerPlessy"/>
          <p:cNvPicPr/>
          <p:nvPr/>
        </p:nvPicPr>
        <p:blipFill>
          <a:blip r:embed="rId3"/>
          <a:stretch/>
        </p:blipFill>
        <p:spPr>
          <a:xfrm>
            <a:off x="4267080" y="4572000"/>
            <a:ext cx="142884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4" name="projctor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4"/>
          <p:cNvSpPr/>
          <p:nvPr/>
        </p:nvSpPr>
        <p:spPr>
          <a:xfrm>
            <a:off x="238680" y="915840"/>
            <a:ext cx="660420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Brown v. Board of Education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54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-4680" y="1527120"/>
            <a:ext cx="8408880" cy="32130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 African-American girl named Lind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rown lived near an all-white school i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opeka, KS.  To get to her all-black school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he had to cross several dangerous road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d railroads.  Her father, Oliver Brown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iled suit to overturn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Plessy v. Fergus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nable Linda Brown to attend the all-whit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chool near her hom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28600" y="4803840"/>
            <a:ext cx="8686800" cy="2043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id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parate but equal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rovision of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Plessy v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Fergus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violate the equal protection clause of the Fourteenth Amendment?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46" name="WordArt 7"/>
          <p:cNvSpPr txBox="1"/>
          <p:nvPr/>
        </p:nvSpPr>
        <p:spPr>
          <a:xfrm>
            <a:off x="838080" y="152280"/>
            <a:ext cx="66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7" name="Picture 8" descr="Monroe Elementary School"/>
          <p:cNvPicPr/>
          <p:nvPr/>
        </p:nvPicPr>
        <p:blipFill>
          <a:blip r:embed="rId2"/>
          <a:srcRect l="0" t="11111" r="0" b="34985"/>
          <a:stretch/>
        </p:blipFill>
        <p:spPr>
          <a:xfrm>
            <a:off x="4419720" y="4495680"/>
            <a:ext cx="472428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3" name="projcto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238680" y="915840"/>
            <a:ext cx="660420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Brown v. Board of Education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54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-27000" y="1527120"/>
            <a:ext cx="6840720" cy="32130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Warren Court held: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Pless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v. Ferguson</a:t>
            </a: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parate bu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qual rul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wa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a violation of th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ourteenth Amendment.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acial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gregation in public educatio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as a detrimental effect o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inority children because it i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terpreted as a sign of inferiority.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551" name="Picture 6" descr="image?id=1004230"/>
          <p:cNvPicPr/>
          <p:nvPr/>
        </p:nvPicPr>
        <p:blipFill>
          <a:blip r:embed="rId2"/>
          <a:srcRect l="8469" t="0" r="0" b="0"/>
          <a:stretch/>
        </p:blipFill>
        <p:spPr>
          <a:xfrm>
            <a:off x="6553080" y="1523880"/>
            <a:ext cx="2409840" cy="32767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7"/>
          <p:cNvSpPr/>
          <p:nvPr/>
        </p:nvSpPr>
        <p:spPr>
          <a:xfrm>
            <a:off x="-6840" y="4782960"/>
            <a:ext cx="7960680" cy="87372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sult: beginning of the end of all form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f state-maintained racial segregation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553" name="Picture 8" descr="Monroe Elementary School"/>
          <p:cNvPicPr/>
          <p:nvPr/>
        </p:nvPicPr>
        <p:blipFill>
          <a:blip r:embed="rId3"/>
          <a:srcRect l="0" t="11111" r="0" b="34985"/>
          <a:stretch/>
        </p:blipFill>
        <p:spPr>
          <a:xfrm>
            <a:off x="2286000" y="5635800"/>
            <a:ext cx="4724280" cy="1222200"/>
          </a:xfrm>
          <a:prstGeom prst="rect">
            <a:avLst/>
          </a:prstGeom>
          <a:ln w="0">
            <a:noFill/>
          </a:ln>
        </p:spPr>
      </p:pic>
      <p:sp>
        <p:nvSpPr>
          <p:cNvPr id="554" name="WordArt 9"/>
          <p:cNvSpPr txBox="1"/>
          <p:nvPr/>
        </p:nvSpPr>
        <p:spPr>
          <a:xfrm>
            <a:off x="762120" y="15228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Burger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28600" y="914400"/>
            <a:ext cx="2378160" cy="297180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5"/>
          <p:cNvSpPr/>
          <p:nvPr/>
        </p:nvSpPr>
        <p:spPr>
          <a:xfrm>
            <a:off x="2743200" y="1143000"/>
            <a:ext cx="5791320" cy="3352680"/>
          </a:xfrm>
          <a:prstGeom prst="wedgeRoundRectCallout">
            <a:avLst>
              <a:gd name="adj1" fmla="val -67435"/>
              <a:gd name="adj2" fmla="val 1611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other landmark case from the Burger Court we will discuss had to do with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verse discrimination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nder the affirmative action issue: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Regents of the University of California v. Bakke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78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-6120" y="4816440"/>
            <a:ext cx="8078040" cy="20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llan Bakke, 35 year old Caucasian, ha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wice been rejected for admission to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C Davis medical school. The schoo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served 16 places in each entering clas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or 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qualified minorities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s part . . 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59" name="WordArt 7"/>
          <p:cNvSpPr txBox="1"/>
          <p:nvPr/>
        </p:nvSpPr>
        <p:spPr>
          <a:xfrm>
            <a:off x="76212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4080" y="1274760"/>
            <a:ext cx="5257800" cy="977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Regents of the University of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California v. Bakk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78)</a:t>
            </a:r>
            <a:endParaRPr b="0" lang="en-US" sz="32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119160" y="2365200"/>
            <a:ext cx="8175600" cy="3992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. .of the university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affirmative actio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rogram, in an effort to 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dress long-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tanding, unfair minority exclusions from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medical profession.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Bakk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colleg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GPA and MCAT scores exceeded those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y of the minority applicants who ha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een admitted ahead of him. Bakk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laimed that he was excluded from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dmission solely on the purpose of race;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r 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verse discrimination.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63" name="WordArt 6"/>
          <p:cNvSpPr txBox="1"/>
          <p:nvPr/>
        </p:nvSpPr>
        <p:spPr>
          <a:xfrm>
            <a:off x="838080" y="228600"/>
            <a:ext cx="66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2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hief Justice John Marshall (1755–1835), an engraving after Henry Inman's 1834 painting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838080"/>
            <a:ext cx="2633760" cy="3581640"/>
          </a:xfrm>
          <a:prstGeom prst="rect">
            <a:avLst/>
          </a:prstGeom>
          <a:ln w="0">
            <a:noFill/>
          </a:ln>
        </p:spPr>
      </p:pic>
      <p:sp>
        <p:nvSpPr>
          <p:cNvPr id="310" name="WordArt 5"/>
          <p:cNvSpPr txBox="1"/>
          <p:nvPr/>
        </p:nvSpPr>
        <p:spPr>
          <a:xfrm>
            <a:off x="990720" y="304920"/>
            <a:ext cx="7162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612520" y="841320"/>
            <a:ext cx="6124320" cy="1653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arshall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decision initiat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urt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power of Judici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view—interpreting what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aw i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689200" y="2514600"/>
            <a:ext cx="6194520" cy="1653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Not used again until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ecision in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Dred Scott vs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Sanfor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1857 and only abou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150 times since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129600" y="4441680"/>
            <a:ext cx="8797680" cy="2043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Even though the Marshall Court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decision i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Marbury vs. Madiso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803) declared part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Judiciary Act of 1789 unconstitutional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structure of today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federal court system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as established by another part of that law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4"/>
          <p:cNvSpPr/>
          <p:nvPr/>
        </p:nvSpPr>
        <p:spPr>
          <a:xfrm>
            <a:off x="396720" y="893880"/>
            <a:ext cx="5257800" cy="977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Regents of the University of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California v. Bakk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78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73520" y="1963800"/>
            <a:ext cx="7634880" cy="16534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id UC violate the Fourteent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mendmen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equal protection clause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d the Civil Rights Act of 1964, b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racticing an affirmative action policy?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228240" y="3736800"/>
            <a:ext cx="7820640" cy="2823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Burger Court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ld arrive at n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ingle majority opinion.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Cour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rdered the UC Davis Medical School 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dmit Bakke.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owever, the Cour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als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uled that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use of race as a criterio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 admissions decisions in higher edu-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ation was constitutionally permissible.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68" name="WordArt 7"/>
          <p:cNvSpPr txBox="1"/>
          <p:nvPr/>
        </p:nvSpPr>
        <p:spPr>
          <a:xfrm>
            <a:off x="838080" y="152280"/>
            <a:ext cx="66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2" name="projctor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rehnquist_s"/>
          <p:cNvPicPr/>
          <p:nvPr/>
        </p:nvPicPr>
        <p:blipFill>
          <a:blip r:embed="rId2"/>
          <a:stretch/>
        </p:blipFill>
        <p:spPr>
          <a:xfrm>
            <a:off x="1143000" y="914400"/>
            <a:ext cx="2214720" cy="2590920"/>
          </a:xfrm>
          <a:prstGeom prst="rect">
            <a:avLst/>
          </a:prstGeom>
          <a:ln w="0">
            <a:noFill/>
          </a:ln>
        </p:spPr>
      </p:pic>
      <p:sp>
        <p:nvSpPr>
          <p:cNvPr id="571" name="AutoShape 5"/>
          <p:cNvSpPr/>
          <p:nvPr/>
        </p:nvSpPr>
        <p:spPr>
          <a:xfrm>
            <a:off x="3200400" y="990720"/>
            <a:ext cx="4876920" cy="1447560"/>
          </a:xfrm>
          <a:prstGeom prst="wedgeRoundRectCallout">
            <a:avLst>
              <a:gd name="adj1" fmla="val -61587"/>
              <a:gd name="adj2" fmla="val 58115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2003, my court made a similar ruling i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Gratz v. Bollinger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982440" y="3605040"/>
            <a:ext cx="8387640" cy="321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Jennifer Gratz applied to the University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ichigan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College of Literature, Scienc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d Arts with an adjusted GPA of 3.8 an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 ACT score of 25 (about 1300 SAT). Th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niversity of Michigan admitted using rac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making admissions decisions—its polic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 to admit virtually all qualified applicant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ho are black, Latino or Native American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73" name="WordArt 7"/>
          <p:cNvSpPr txBox="1"/>
          <p:nvPr/>
        </p:nvSpPr>
        <p:spPr>
          <a:xfrm>
            <a:off x="838080" y="152280"/>
            <a:ext cx="66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4"/>
          <p:cNvSpPr/>
          <p:nvPr/>
        </p:nvSpPr>
        <p:spPr>
          <a:xfrm>
            <a:off x="189360" y="979560"/>
            <a:ext cx="457740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Gratz v. Bollinger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2003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-41400" y="1587600"/>
            <a:ext cx="8347680" cy="2043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id the University of Michigan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se of racial preferences in undergraduat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dmissions violate the Equal Protectio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lause of the Fourteenth Amendment o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Civil Rights Act of 1964?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14400" y="3645000"/>
            <a:ext cx="8326440" cy="321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hnquis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Court held that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University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polic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</a:rPr>
              <a:t>did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violate both laws.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Bakke decision the Court took in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ccount the fact that the University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alifornia provided individualized con-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ideration to Bakke.  The Univ. of Michiga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id NOT do so because each minorit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pplicant received an automatic 20-point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78" name="WordArt 7"/>
          <p:cNvSpPr txBox="1"/>
          <p:nvPr/>
        </p:nvSpPr>
        <p:spPr>
          <a:xfrm>
            <a:off x="914400" y="30492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2" name="projctor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2"/>
          <p:cNvSpPr txBox="1"/>
          <p:nvPr/>
        </p:nvSpPr>
        <p:spPr>
          <a:xfrm>
            <a:off x="914400" y="30492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0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rehnquist_s"/>
          <p:cNvPicPr/>
          <p:nvPr/>
        </p:nvPicPr>
        <p:blipFill>
          <a:blip r:embed="rId2"/>
          <a:stretch/>
        </p:blipFill>
        <p:spPr>
          <a:xfrm>
            <a:off x="228600" y="1676520"/>
            <a:ext cx="2214720" cy="259056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5"/>
          <p:cNvSpPr/>
          <p:nvPr/>
        </p:nvSpPr>
        <p:spPr>
          <a:xfrm>
            <a:off x="3048120" y="2286000"/>
            <a:ext cx="5410080" cy="4038480"/>
          </a:xfrm>
          <a:prstGeom prst="wedgeRoundRectCallout">
            <a:avLst>
              <a:gd name="adj1" fmla="val -77023"/>
              <a:gd name="adj2" fmla="val -23074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espite ruling against the University of Michigan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admissions policy, our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Court did, however, confirm that affirmative action plans in university admissions are legal and valid under the Constitution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240840" y="1071720"/>
            <a:ext cx="468252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Gratz v. Bollinger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2003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5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usa"/>
          <p:cNvPicPr/>
          <p:nvPr/>
        </p:nvPicPr>
        <p:blipFill>
          <a:blip r:embed="rId2"/>
          <a:stretch/>
        </p:blipFill>
        <p:spPr>
          <a:xfrm>
            <a:off x="685800" y="838080"/>
            <a:ext cx="6354720" cy="47325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-177120" y="4462560"/>
            <a:ext cx="9155520" cy="228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ower federal courts hav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</a:rPr>
              <a:t>original jurisdictio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: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authority to hear a case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initial trial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But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imits on federal courts are that they ma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nly hear cases arising under the Constitutio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nd other federal law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and other relat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actors—governments, foreign diplomats, etc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9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[IMAGE]"/>
          <p:cNvPicPr/>
          <p:nvPr/>
        </p:nvPicPr>
        <p:blipFill>
          <a:blip r:embed="rId2"/>
          <a:stretch/>
        </p:blipFill>
        <p:spPr>
          <a:xfrm>
            <a:off x="5962680" y="838080"/>
            <a:ext cx="3181320" cy="411480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5"/>
          <p:cNvSpPr/>
          <p:nvPr/>
        </p:nvSpPr>
        <p:spPr>
          <a:xfrm>
            <a:off x="380880" y="838080"/>
            <a:ext cx="6019920" cy="3810240"/>
          </a:xfrm>
          <a:prstGeom prst="wedgeRoundRectCallout">
            <a:avLst>
              <a:gd name="adj1" fmla="val 66694"/>
              <a:gd name="adj2" fmla="val -2208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ey, you know I love to see young people tested.  And Simoncini likes to throw in material from charts in the book on his tests.  So make sure that you review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hart on p. 427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of your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extbook,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regarding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ow Cases Get to the Supreme Court.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322" name="Picture 6" descr="Judge Joe Brown"/>
          <p:cNvPicPr/>
          <p:nvPr/>
        </p:nvPicPr>
        <p:blipFill>
          <a:blip r:embed="rId3"/>
          <a:stretch/>
        </p:blipFill>
        <p:spPr>
          <a:xfrm>
            <a:off x="457200" y="4699080"/>
            <a:ext cx="2590920" cy="21589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7"/>
          <p:cNvSpPr/>
          <p:nvPr/>
        </p:nvSpPr>
        <p:spPr>
          <a:xfrm>
            <a:off x="2971800" y="4800600"/>
            <a:ext cx="5943600" cy="1676520"/>
          </a:xfrm>
          <a:prstGeom prst="wedgeRoundRectCallout">
            <a:avLst>
              <a:gd name="adj1" fmla="val -67787"/>
              <a:gd name="adj2" fmla="val -12310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nk you, Judge Judy.  Judge Joe Brown here.  Now le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look a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ow the lower federal courts are organize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5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Supreme Court Building">
            <a:hlinkClick r:id="rId2"/>
          </p:cNvPr>
          <p:cNvPicPr/>
          <p:nvPr/>
        </p:nvPicPr>
        <p:blipFill>
          <a:blip r:embed="rId3"/>
          <a:srcRect l="0" t="-1842" r="0" b="0"/>
          <a:stretch/>
        </p:blipFill>
        <p:spPr>
          <a:xfrm>
            <a:off x="0" y="2678040"/>
            <a:ext cx="4114800" cy="41799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5"/>
          <p:cNvSpPr/>
          <p:nvPr/>
        </p:nvSpPr>
        <p:spPr>
          <a:xfrm>
            <a:off x="6120" y="917640"/>
            <a:ext cx="8584200" cy="82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ower cour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re divided into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istrict court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nd courts of appeal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28800" y="1679400"/>
            <a:ext cx="8088480" cy="82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istrict cour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rial cour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the federal 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rt system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04920" y="2438280"/>
            <a:ext cx="8839080" cy="113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y are assigned to </a:t>
            </a:r>
            <a:r>
              <a:rPr b="0" lang="en-US" sz="3200" spc="-1" strike="noStrike" u="sng">
                <a:solidFill>
                  <a:srgbClr val="deb54e"/>
                </a:solidFill>
                <a:uFillTx/>
                <a:latin typeface="Arial Unicode MS"/>
                <a:hlinkClick r:id="rId4"/>
              </a:rPr>
              <a:t>specific geographic area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2457720" y="2975040"/>
            <a:ext cx="666540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istrict courts mak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cision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ispute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ased on the law an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acts presente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the cas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216600" y="4213080"/>
            <a:ext cx="6046560" cy="2651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ases are tried before a        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istrict court judge and jur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oth sides presen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evidenc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ome of which is supplied b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itness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rosecutor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presen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peopl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;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fens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uncil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represen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fendant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5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3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Detail of West Pediment above main entrance to Supreme Court"/>
          <p:cNvPicPr/>
          <p:nvPr/>
        </p:nvPicPr>
        <p:blipFill>
          <a:blip r:embed="rId2"/>
          <a:stretch/>
        </p:blipFill>
        <p:spPr>
          <a:xfrm>
            <a:off x="4675320" y="762120"/>
            <a:ext cx="4468680" cy="17254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119880" y="993600"/>
            <a:ext cx="461844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urts of appeals hea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ppeals of cas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a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ave been adjudicat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y district court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99720" y="2593800"/>
            <a:ext cx="8649360" cy="82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re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11 U. S. courts of appeal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each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hich cover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 jurisdiction called a circui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96120" y="3432240"/>
            <a:ext cx="886752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Ninth Circuit Court of Appeals covers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estern region: AK, HI, WA, OR, CA, NV, AZ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D, and MT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46080" y="4575240"/>
            <a:ext cx="8758080" cy="459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ach circuit court of appeals ha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6-28 judg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17640" y="4956120"/>
            <a:ext cx="897408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No juries; usually only 3 judges hear a cas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;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owever, at times the entire circuit court ma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ear a case—the Ninth Circuit and the Pledg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f Allegiance 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nder God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lawsui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9:44:29Z</dcterms:created>
  <dc:creator>Student</dc:creator>
  <dc:description/>
  <dc:language>en-US</dc:language>
  <cp:lastModifiedBy>Mark Scacewater</cp:lastModifiedBy>
  <dcterms:modified xsi:type="dcterms:W3CDTF">2011-09-27T05:02:53Z</dcterms:modified>
  <cp:revision>22</cp:revision>
  <dc:subject/>
  <dc:title>PowerPoint Presentation</dc:title>
</cp:coreProperties>
</file>